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D24-A8E2-48D0-8495-41C21F4E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96F-31AC-4013-9CBB-0F4B9FEC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AABF-77DE-4DEA-AFDA-849506D6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0F2-52A5-4A93-9222-2D179B77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6CA-102B-445F-B4BF-013B8984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5371-4524-4697-A466-D3A0D8C4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F2C-F3B9-49F9-A367-BD9C9292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D2D-9ABD-42C2-AA27-2EF49369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EDC9-83B4-4B2D-91EA-154D4055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6B1-6D31-4997-B716-F5113C19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978-7EEB-45DB-A5D1-996F5C8F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09E-DDB2-4C6A-B929-82268DC7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F92A-5DF9-43CC-9A19-F7EB38BA6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55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5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90720" y="579132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    love      to go fish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791320" y="228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33520" y="472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981080" y="472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952880" y="46483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181480" cy="437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571500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     love      to eat      burger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8672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472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981080" y="472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962520" y="472428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6477120" y="4724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4572000" cy="3406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2120" y="57150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   love    to eat    french fri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80880" y="472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676520" y="472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505320" y="472428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095880" y="46483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02:15:46Z</dcterms:created>
  <dc:creator>Dunamis</dc:creator>
  <dc:description/>
  <dc:language>en-US</dc:language>
  <cp:lastModifiedBy>Dunamis</cp:lastModifiedBy>
  <dcterms:modified xsi:type="dcterms:W3CDTF">2005-02-15T02:43:10Z</dcterms:modified>
  <cp:revision>5</cp:revision>
  <dc:subject/>
  <dc:title>PowerPoint Presentation</dc:title>
</cp:coreProperties>
</file>